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gif" ContentType="image/gif"/>
  <Override PartName="/ppt/media/image14.jpeg" ContentType="image/jpeg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1F2-EF13-42A6-B6CE-9F074DC1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0FEC-2BF3-45F5-ABFE-3E07588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92B-EAFE-4076-99F1-9EB556C4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39E-9955-4FB2-9166-6672C7F1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721-0075-40FD-9FBF-79AC91C1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411-A601-4566-BAEF-4816142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659-8062-491A-B120-A59752F7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660-6EF3-47B8-948E-C4780D1B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F74-3BFD-436F-B9EA-A4C63B67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537-EDA3-48B0-8F77-1E2139DA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BD2-AA04-4464-83AF-A6A4C2FF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AEC-828E-43C7-A6F1-9514A58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48BF-8812-48F1-9636-764BDC9FC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9640" y="0"/>
            <a:ext cx="3600360" cy="5616720"/>
          </a:xfrm>
          <a:prstGeom prst="wedgeRoundRectCallout">
            <a:avLst>
              <a:gd name="adj1" fmla="val -68254"/>
              <a:gd name="adj2" fmla="val 68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В 1892 году Киплинг женился на американке, сестре своего недавно умершего издателя. Молодые супруги переезжают в США в штат Вермо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В Вермонте Киплинг пишет пове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«Книга джунг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96000" y="4724280"/>
            <a:ext cx="3348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50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80000" y="549360"/>
            <a:ext cx="2664000" cy="5616360"/>
          </a:xfrm>
          <a:prstGeom prst="wedgeRoundRectCallout">
            <a:avLst>
              <a:gd name="adj1" fmla="val -76699"/>
              <a:gd name="adj2" fmla="val -17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902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 г. Киплинг переезжает в Англию и покупает загородный дом в графств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уссекс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, где остается до конца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6156360" cy="407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12000" y="333360"/>
            <a:ext cx="2881080" cy="4464000"/>
          </a:xfrm>
          <a:prstGeom prst="wedgeRoundRectCallout">
            <a:avLst>
              <a:gd name="adj1" fmla="val -93138"/>
              <a:gd name="adj2" fmla="val -1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Сейчас дом Киплингов, превращённый в Национальный музей, выглядит точно так, как в последние годы жизни писа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486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8920" y="1268280"/>
            <a:ext cx="3745080" cy="5589720"/>
          </a:xfrm>
          <a:prstGeom prst="wedgeRoundRectCallout">
            <a:avLst>
              <a:gd name="adj1" fmla="val -68481"/>
              <a:gd name="adj2" fmla="val 12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вятая святых </a:t>
            </a:r>
            <a:r>
              <a:rPr b="0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абинет писателя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                           - сердце дома Киплин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исатель работал по утрам, и в это время для него ничего другого не существов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Лишь закончив намеченную часть работы, Киплинг «возвращался» в обычную жизнь, а после обеда он приглашал жену, младшую дочь, сына и редких гостей послушать его новый расс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830840"/>
            <a:ext cx="2411280" cy="202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30956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42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91636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4221000"/>
            <a:ext cx="8498160" cy="2637000"/>
          </a:xfrm>
          <a:prstGeom prst="wedgeRoundRectCallout">
            <a:avLst>
              <a:gd name="adj1" fmla="val 30310"/>
              <a:gd name="adj2" fmla="val -48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Особое место в усадьбе Киплингов занимает огромный сад с прудом и цветниками, с благородными по-английски подстриженными и подрезанными с дикорастущими деревьями и кустар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9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оду Киплинг был награждё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обелевской премией по литера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660033"/>
                </a:solidFill>
                <a:latin typeface="Blackadder ITC"/>
              </a:rPr>
              <a:t>«За яркую фантазию, зрелость идей и выдающийся талант повествователя».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Значительная часть премии была истрачена на облагораживание усадьбы и приведение в порядок территории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2147760" cy="21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33360"/>
            <a:ext cx="3384720" cy="5111640"/>
          </a:xfrm>
          <a:prstGeom prst="wedgeRoundRectCallout">
            <a:avLst>
              <a:gd name="adj1" fmla="val -22652"/>
              <a:gd name="adj2" fmla="val 7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34 года, прожитые Редьярдом Киплингом в своей усадьбе в графстве Сассекс, оставались плодотворными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Были написаны необычные, трогательные и привлекательные                  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«Просто сказки»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:«Слонёнок», «Кошка, гулявшая сама по себе»,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остающиеся популярными и поныне, много рассказов, путевые записки и очерки,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11280" y="4923000"/>
            <a:ext cx="2849760" cy="193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46560" y="0"/>
            <a:ext cx="399744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0616600">
            <a:off x="3563640" y="188640"/>
            <a:ext cx="1630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Рис. С.Любаева к книге Р.Киплинга «Пак с Волшебных холмов»"/>
          <p:cNvPicPr/>
          <p:nvPr/>
        </p:nvPicPr>
        <p:blipFill>
          <a:blip r:embed="rId1"/>
          <a:stretch/>
        </p:blipFill>
        <p:spPr>
          <a:xfrm>
            <a:off x="0" y="5587920"/>
            <a:ext cx="2050920" cy="127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Рис. С.Любаева к книге Р.Киплинга «Подарки фей»"/>
          <p:cNvPicPr/>
          <p:nvPr/>
        </p:nvPicPr>
        <p:blipFill>
          <a:blip r:embed="rId2"/>
          <a:stretch/>
        </p:blipFill>
        <p:spPr>
          <a:xfrm>
            <a:off x="7178760" y="3357720"/>
            <a:ext cx="1965240" cy="3314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Рис. С.Любаева к книге Р.Киплинга «Пак с Волшебных холмов»"/>
          <p:cNvPicPr/>
          <p:nvPr/>
        </p:nvPicPr>
        <p:blipFill>
          <a:blip r:embed="rId3"/>
          <a:stretch/>
        </p:blipFill>
        <p:spPr>
          <a:xfrm>
            <a:off x="3780000" y="0"/>
            <a:ext cx="157140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Суперобложка книги Р.Киплинга «Подарки фей». Худож. С.Любаев"/>
          <p:cNvPicPr/>
          <p:nvPr/>
        </p:nvPicPr>
        <p:blipFill>
          <a:blip r:embed="rId4"/>
          <a:stretch/>
        </p:blipFill>
        <p:spPr>
          <a:xfrm rot="20882400">
            <a:off x="539640" y="333360"/>
            <a:ext cx="3473640" cy="511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Суперобложка книги Р.Киплинга «Пак с Волшебных холмов». Худож. С.Любаев"/>
          <p:cNvPicPr/>
          <p:nvPr/>
        </p:nvPicPr>
        <p:blipFill>
          <a:blip r:embed="rId5"/>
          <a:stretch/>
        </p:blipFill>
        <p:spPr>
          <a:xfrm rot="1414800">
            <a:off x="5076360" y="620280"/>
            <a:ext cx="3318120" cy="4826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067280" y="4508640"/>
            <a:ext cx="1684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14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368880" cy="475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59280" y="5084640"/>
            <a:ext cx="3889440" cy="1440000"/>
          </a:xfrm>
          <a:prstGeom prst="wedgeRoundRectCallout">
            <a:avLst>
              <a:gd name="adj1" fmla="val -68569"/>
              <a:gd name="adj2" fmla="val 408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нига состоит из двух частей. Некоторые из рассказов повествуют о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аугли,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о его жизни в джунглях среди диких зве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0:18:05Z</dcterms:created>
  <dc:creator>Людмила</dc:creator>
  <dc:description/>
  <dc:language>en-US</dc:language>
  <cp:lastModifiedBy>User</cp:lastModifiedBy>
  <dcterms:modified xsi:type="dcterms:W3CDTF">2006-07-26T13:58:08Z</dcterms:modified>
  <cp:revision>154</cp:revision>
  <dc:subject/>
  <dc:title>Слайд 1</dc:title>
</cp:coreProperties>
</file>