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0.jpeg" ContentType="image/jpeg"/>
  <Override PartName="/ppt/media/image9.jpeg" ContentType="image/jpeg"/>
  <Override PartName="/ppt/media/image12.gif" ContentType="image/gif"/>
  <Override PartName="/ppt/media/image7.gif" ContentType="image/gif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5.gif" ContentType="image/gif"/>
  <Override PartName="/ppt/media/image8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9AE-20E6-4B85-856E-9296C6E3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7C5-0B01-4B2A-8F45-670E05B5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F94-2560-40D2-8D74-00012778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DE2-5882-4C35-890A-1C0E2630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3FA-E647-4F5B-8ECA-4A3759BA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CA6-4B01-4379-B228-8C72C333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B83-6AB2-4E60-880C-E420B4C5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B80-57EE-4426-A118-84DB818E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E7A-3F04-4B3C-8510-8F15AF3C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87F-2BE8-41C2-BF6B-498F3786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E30-A219-4BE7-974A-8ABB90EA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66E-391E-4CE5-B2ED-CC8C8A5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2E2B-6EB4-4B57-9291-B4925780A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51280" y="907920"/>
            <a:ext cx="4105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МАУГ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356000" y="4941720"/>
            <a:ext cx="4356360" cy="17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Редьяр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ИПЛИН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095640" cy="352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502920" cy="22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258040" y="1916280"/>
            <a:ext cx="885960" cy="102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050920" y="11592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21233400">
            <a:off x="2268000" y="189000"/>
            <a:ext cx="1366920" cy="122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716360" y="5300640"/>
            <a:ext cx="114300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187280" y="4724280"/>
            <a:ext cx="20894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5327640" cy="483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356000" y="4941720"/>
            <a:ext cx="4356360" cy="17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Редьяр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ИПЛИН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476280"/>
            <a:ext cx="2663640" cy="3600360"/>
          </a:xfrm>
          <a:prstGeom prst="wedgeRoundRectCallout">
            <a:avLst>
              <a:gd name="adj1" fmla="val -73300"/>
              <a:gd name="adj2" fmla="val 75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дущий знаменитый британский писатель Киплинг родился в Индии в Бомбе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30 декабря 1865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157720"/>
            <a:ext cx="3456000" cy="1511280"/>
          </a:xfrm>
          <a:prstGeom prst="wedgeRoundRectCallout">
            <a:avLst>
              <a:gd name="adj1" fmla="val 76962"/>
              <a:gd name="adj2" fmla="val -24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Ему дали два имени </a:t>
            </a:r>
            <a:r>
              <a:rPr b="1" lang="ru-RU" sz="14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Джозеф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(в честь деда) и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Редьярд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(в память о посещении родителями живописного озера в Великобритании с тем же название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260280"/>
            <a:ext cx="2900520" cy="3384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5483160" cy="590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789360"/>
            <a:ext cx="2663640" cy="2735280"/>
          </a:xfrm>
          <a:prstGeom prst="wedgeRoundRectCallout">
            <a:avLst>
              <a:gd name="adj1" fmla="val -238736"/>
              <a:gd name="adj2" fmla="val -516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вые шесть лет жизни мальчик провёл в Индии и от слуг научился говорить на языке хинди раньше, чем на англий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111420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971640" y="1557360"/>
            <a:ext cx="780840" cy="1085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484360" y="2421000"/>
            <a:ext cx="1084320" cy="76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0" y="4686480"/>
            <a:ext cx="33116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19280" y="260280"/>
            <a:ext cx="4608360" cy="3529080"/>
          </a:xfrm>
          <a:prstGeom prst="wedgeRoundRectCallout">
            <a:avLst>
              <a:gd name="adj1" fmla="val -56268"/>
              <a:gd name="adj2" fmla="val 8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шестилетнем возрасте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едьярда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его сестру отправляют на учёбу в Англ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дирчивое и жестокое отношение хозяйки учебного пансиона привело к резкому ухудшению зрения мальчика и на всю жизнь у него возникла неумолимая бессо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4294080"/>
            <a:ext cx="2124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260280"/>
            <a:ext cx="3529080" cy="5905440"/>
          </a:xfrm>
          <a:prstGeom prst="wedgeRoundRectCallout">
            <a:avLst>
              <a:gd name="adj1" fmla="val 72134"/>
              <a:gd name="adj2" fmla="val 4900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878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 г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иплинг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был послан в Девонское училище, где сыновья офицеров готовились к поступлению в престижные военные акад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тя первое время мальчику изрядно доставалось от задир-однокашников, в конце концов он полюбил училищ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о плохое зрение не позволило молодому Киплингу стать военным, как он намерева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5118120"/>
            <a:ext cx="4572000" cy="173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отец под впечатлением рассказов, написанных сыном в училище, подыскал ему работу в редакции «Гражданской и военной газеты» выходившей в Индии, и в октябре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1882 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, прожив в Англии 11 лет, Редъярд возвращается в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И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76720" y="404640"/>
            <a:ext cx="3814920" cy="5688360"/>
          </a:xfrm>
          <a:prstGeom prst="wedgeRoundRectCallout">
            <a:avLst>
              <a:gd name="adj1" fmla="val -77175"/>
              <a:gd name="adj2" fmla="val 58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газете, кроме репортажей, интервью, светской хроники, Киплинг опубликовал множество собственных рассказо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Простые рассказы с гор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Департаментские песенки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достигли Англии, и влиятельный критик Эндрю Лэнг воскликну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«Эврика! На свет родился гени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21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24360" y="620640"/>
            <a:ext cx="3240360" cy="4824360"/>
          </a:xfrm>
          <a:prstGeom prst="wedgeRoundRectCallout">
            <a:avLst>
              <a:gd name="adj1" fmla="val -85569"/>
              <a:gd name="adj2" fmla="val 71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едьярд Киплинг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путешествует по разным странам, много пишет, в Лондон он возвращается знаменитым писател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0:18:05Z</dcterms:created>
  <dc:creator>Людмила</dc:creator>
  <dc:description/>
  <dc:language>en-US</dc:language>
  <cp:lastModifiedBy>User</cp:lastModifiedBy>
  <dcterms:modified xsi:type="dcterms:W3CDTF">2006-07-26T13:56:01Z</dcterms:modified>
  <cp:revision>157</cp:revision>
  <dc:subject/>
  <dc:title>Слайд 1</dc:title>
</cp:coreProperties>
</file>